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42C-89F1-4F6D-97ED-76C15F0A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9D3-A0CD-461B-B34A-EB817610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2A9-705B-4CE1-BB2A-72B979F4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80C-C212-499B-BD91-7EF99611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EF2-ECF5-48B2-856D-32E68B2C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D55-304B-4193-B791-1A997712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9801-AB32-4819-97AA-CEF439E6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683-0AE1-4730-85B4-5E294D38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427-2475-4E57-8227-7E57BF33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4316-B07B-45E9-B84B-AF3ED9BB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1A3-7E6D-4EA8-870A-955F5CB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8D2-8F38-4DE8-BD93-19E391D3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C186-A98B-4DAA-91D7-7CBDA1C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2C1D-30D3-4998-8250-9A3A25B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6D2D-F156-4D54-9A82-075AA3B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0D88-1727-44D5-8CB0-22DAB8F3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466A-CC1D-4E29-909E-8DF9BAD8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4F86-1D64-4F18-8EC1-58E95FE0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CB35-A7AD-48D3-8902-72585B02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429D-E620-48FB-82EF-A83FCF26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1930-738B-49ED-852E-0CB71C8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D1AF-F05B-4FAB-A2ED-6E36FDD8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3F5-3F7C-4329-9C57-C264B4C2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D89B-B383-47D5-8EAF-5A5235CE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D8B6-1F56-4819-81FC-F38DD8A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85D7-7680-4109-9EDD-523C39A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5788-AFCE-41D5-9332-F9E0709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9568-A5E7-424B-A290-80C72C4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221F-5F59-44CD-92CC-5D8A85E6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CEE9-B0DF-495F-A734-2C0E4735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2E4-7510-4ABF-8687-0A23F00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516-E731-4E5B-9251-78AAF05B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7BE-0774-4BDE-9A8C-0707C563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9E0-87FE-48B2-AC44-C1C69791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8F7-873C-411C-80D0-B8B0B251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B23-D993-4C18-86BF-E59B0D6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9074-05C1-43A0-8FD5-AA1EF7DCCD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668E-6F2F-4C16-A205-02CEAC2E6B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832A-D752-4B8B-8386-3834A689FC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50104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Приготовление препарата   кожицы чешуи лу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395280" y="476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E3F-43C8-441C-904D-5582EDA2B20A}" type="datetime">
              <a:rPr b="1" lang="ru-RU" sz="1800" spc="-1" strike="noStrike">
                <a:solidFill>
                  <a:srgbClr val="00b050"/>
                </a:solidFill>
                <a:latin typeface="Arial"/>
              </a:rPr>
              <a:t>30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\МОИ ДОКУМЕНТЫ-2\картинки биология\общая биология\цитология\микроскоп и приготовление препаратов\этапы приготовления препарата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1596960" y="-12600"/>
            <a:ext cx="5950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052720" y="1919160"/>
            <a:ext cx="5113080" cy="40402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2195640" y="3645000"/>
            <a:ext cx="1224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1476360" y="4005000"/>
            <a:ext cx="9349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250920" y="472428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324000" y="4365720"/>
            <a:ext cx="1137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5219280" y="378936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H="1">
            <a:off x="4788000" y="3789360"/>
            <a:ext cx="252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5724360" y="3789360"/>
            <a:ext cx="1656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2"/>
          <p:cNvSpPr txBox="1"/>
          <p:nvPr/>
        </p:nvSpPr>
        <p:spPr>
          <a:xfrm>
            <a:off x="7524720" y="342900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4608720" cy="4681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64000" y="2205000"/>
            <a:ext cx="180000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3564000" y="2205000"/>
            <a:ext cx="1152360" cy="216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971640" y="2205000"/>
            <a:ext cx="25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900000" y="177336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ку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09:28Z</dcterms:created>
  <dc:creator>user</dc:creator>
  <dc:description/>
  <dc:language>en-US</dc:language>
  <cp:lastModifiedBy>Алла Матросова</cp:lastModifiedBy>
  <dcterms:modified xsi:type="dcterms:W3CDTF">2020-10-01T19:23:57Z</dcterms:modified>
  <cp:revision>100</cp:revision>
  <dc:subject/>
  <dc:title>Особенности ЕГЭ по биологии 2012 год</dc:title>
</cp:coreProperties>
</file>